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20.jpeg" ContentType="image/jpeg"/>
  <Override PartName="/ppt/media/image1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3592-2021-4A6D-A658-A8832F09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8D543-AA21-42B1-A1D1-76E6D934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9B59-3FDD-4E2E-81D8-0E45A614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A002B-3867-40B1-9857-1ABBF982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7D6F-1F1A-421A-88D1-67E213C7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C8F6-2A73-4755-AD3F-BC0567AF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4616-759E-447C-91D4-F3342F2C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72BF-832F-4F99-88F8-5A412419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A484-2732-4E53-9A07-D7B75195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712B-B748-40E0-8B18-DCD4EE18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3A6E-84B6-4619-B27E-32BE6CA2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C7BE-39DA-4BCC-871F-812439D0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EFEF-FD88-4F70-B7E4-87E91F34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74AF-58D3-4BFF-9179-256738CC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B838-F06B-413E-A11C-BFE35FD3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83DB-396C-464F-9495-F9C4CA0C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1609-A53A-47F2-A6CC-371565D6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8782-695D-45DA-B3BB-07E2ED12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7099-3B42-490F-8B58-2F4DE0E7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F06F-10D8-49E0-9905-4E96A32A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F4E5-BEAA-4637-87FF-FE6256C7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D624-8D52-48ED-ADE3-8AF8408C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0DBEA-2BC7-4131-9B0D-BA06C193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7AFB-818F-4CA4-B6DC-C253FBB6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68CC-D562-49F8-8A4F-DB2ADB4DB3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C80A-2190-4937-925D-DCB863E3C1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Observation of Backwards Pulse Propagation in Erbium Doped Fiber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2280" y="457164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orge Gehrin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aron Schweinsber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istopher Bars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Natalie Kostinsk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Robert Boy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942160"/>
            <a:ext cx="58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. University of Rochester, Rochester, NY 14627 US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. Manhattan College, New York, NY 10471, US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. University of Michigan, Ann Arbor, MI 48109, U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0" y="6095880"/>
            <a:ext cx="190512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gative Group Velo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ide the material, the peak is expected to travel backwards, linking output and inpu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inspires some important ques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es this violate causality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energy conserved, and if so, in what direction is energy flowing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40496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structional Vide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62485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M. Ware, S. Glasgow, and J. Peatross, </a:t>
            </a: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Optics Express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9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, 519-532 (2001)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76240" y="1219320"/>
            <a:ext cx="739152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erimental Set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up (a) is used to temporally resolve the propagation within the fib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up (b) tests the direction of energy flow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28880" y="1295280"/>
            <a:ext cx="5222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ple Data Tr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ces taken for lengths of fiber between 0 and 10 meters, in 25 cm interv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se traces are then arranged spatially and played back simultaneous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9880" y="1990800"/>
            <a:ext cx="5114880" cy="4214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62485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. M. Gehring, A. Schweinsberg, R. W. Boyd, et al.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Scienc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1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895 (2006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62160" y="2743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 Fra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ffects of gain removed to improve clar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rows emphasize peak positions inside and outside the materi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ak position is clearly seen to travel from right to left inside the materi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≈ -4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3753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 – Gain Remov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 Fra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gnal gain inclu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ak inside the material travels backward, but not with the predicted group veloc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is due to the exponential ‘background’ created by the signal ga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521320" y="304920"/>
            <a:ext cx="344808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 – Gain Includ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ergy Transport Dir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bi-directional couplers were added between segments of EDOF, the output on ports B and D agreed with previous resul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on ports A and C were barely above noise threshold, and consistent with expected back reflec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562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bium doped fiber allows the study of exotic pulse propagation effects based on CP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pagation of discontinu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gative group velocities (backward propagat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a pulse propagating through a medium with a negative group velo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lse peak within the material moves backw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ergy transport is always in the forward dir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ow and Fast Ligh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ispersive media, pulses propagate at the group veloc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persion and gain/absorption linked through the Kramers-Kronig re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herent Population Oscillations (CPO) utilized to create narrow spectral hole in an absorption or gain fea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1021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knowledg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nlinear Optics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www.optics.rochester.edu/~boyd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nancial support fro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ARPA/DSO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low Light progra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S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5562720" cy="4200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28958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herent Population Osci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excited state population oscillates at the beat frequency between pump and probe field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ultant spectral hole can be very narrow, creating a rapid change in the refractive ind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594216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llman, Boyd, Krasinski and Stroud, Jr.,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Optics Communications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45,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No. 6, 416-419 (1983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86400" y="1409760"/>
            <a:ext cx="3424320" cy="4381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86400" y="594360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oherent Population Oscillation effect in a ruby crys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 EDOF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bium doped optical fiber exhibits gain or loss depending on optical pumping power at 980 n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ber geometry is favor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ght confine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rge interaction length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24280" y="3352680"/>
            <a:ext cx="4362480" cy="3402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248520" y="1523880"/>
            <a:ext cx="28191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PO Bandwid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ful” spectral region limited by the width of the spectral ho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width is inversely proportional to the excited state lifetime, and can be power broadened by the pump and signal field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4699080"/>
            <a:ext cx="7035840" cy="863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880" y="624852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A. Schweinsberg, N. M. Lepeshkin, M. S. Bigelow, R. W. Boyd, S. Jarabo, </a:t>
            </a: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Europhysics Letters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73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, Issue 2, p218 (2006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oad Spectral Compon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81120" y="167652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 pulse contains spectral content that lies outside of this region, we expect the group velocity prediction to break dow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only a small part of the pulse power l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62140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side the window, the bulk of the pulse will still propagate at the expected group velo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oad Spectral Compon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5333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ontinuity propagates at phase velocity, while bulk of pulse experiences del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SC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429000" y="1371600"/>
            <a:ext cx="4573080" cy="5105520"/>
            <a:chOff x="3429000" y="1371600"/>
            <a:chExt cx="4573080" cy="51055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4184280" y="1371600"/>
              <a:ext cx="3817800" cy="510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" name=""/>
            <p:cNvGrpSpPr/>
            <p:nvPr/>
          </p:nvGrpSpPr>
          <p:grpSpPr>
            <a:xfrm>
              <a:off x="3429000" y="1831320"/>
              <a:ext cx="454680" cy="4163400"/>
              <a:chOff x="3429000" y="1831320"/>
              <a:chExt cx="454680" cy="4163400"/>
            </a:xfrm>
          </p:grpSpPr>
          <p:sp>
            <p:nvSpPr>
              <p:cNvPr id="132" name=""/>
              <p:cNvSpPr/>
              <p:nvPr/>
            </p:nvSpPr>
            <p:spPr>
              <a:xfrm rot="10800000">
                <a:off x="3429000" y="1831320"/>
                <a:ext cx="454680" cy="181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ncreasing Tim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713040" y="3645000"/>
                <a:ext cx="0" cy="2349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gative Group Velo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erbium fiber is pumped with 980nm light, it becomes an amplifi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PO will then create a spectral hole in the gain profile, making dn/d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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fficiently nega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roup velocity becomes nega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lse is advanced in time, with the peak of the output pulse exiting the material before the peak of the input pulse en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9:15:34Z</dcterms:created>
  <dc:creator>Robert Boyd</dc:creator>
  <dc:description/>
  <dc:language>en-US</dc:language>
  <cp:lastModifiedBy>George Gehring</cp:lastModifiedBy>
  <dcterms:modified xsi:type="dcterms:W3CDTF">2006-05-24T04:52:00Z</dcterms:modified>
  <cp:revision>26</cp:revision>
  <dc:subject/>
  <dc:title>Observation of Exotic Pulse Propagation in Erbium Doped Fiber</dc:title>
</cp:coreProperties>
</file>